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120" y="1828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1120" y="5245200"/>
            <a:ext cx="109220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marL="10260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102600" indent="-102600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02600" indent="-102600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02600" indent="-102600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102600" indent="-102600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102600" indent="-102600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102600" indent="-102600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96516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0976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85436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3"/>
          <a:stretch/>
        </p:blipFill>
        <p:spPr>
          <a:xfrm>
            <a:off x="1003320" y="8064360"/>
            <a:ext cx="10998360" cy="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" descr=""/>
          <p:cNvPicPr/>
          <p:nvPr/>
        </p:nvPicPr>
        <p:blipFill>
          <a:blip r:embed="rId3"/>
          <a:stretch/>
        </p:blipFill>
        <p:spPr>
          <a:xfrm>
            <a:off x="1003320" y="8064360"/>
            <a:ext cx="10998360" cy="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96516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0976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85436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40" name="Picture 3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09920" y="276840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1120" y="6959520"/>
            <a:ext cx="10922040" cy="101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41120" y="8292960"/>
            <a:ext cx="1092204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99360" indent="-99360" algn="ctr">
              <a:buClr>
                <a:srgbClr val="49433e"/>
              </a:buClr>
              <a:buFont typeface="Bradley Hand ITC TT-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99360" indent="-99360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99360" indent="-99360" algn="ctr">
              <a:buClr>
                <a:srgbClr val="49433e"/>
              </a:buClr>
              <a:buFont typeface="Bradley Hand ITC TT-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99360" indent="-99360" algn="ctr">
              <a:buClr>
                <a:srgbClr val="49433e"/>
              </a:buClr>
              <a:buFont typeface="Bradley Hand ITC TT-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99360" indent="-99360" algn="ctr">
              <a:buClr>
                <a:srgbClr val="49433e"/>
              </a:buClr>
              <a:buFont typeface="Bradley Hand ITC TT-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99360" indent="-99360" algn="ctr">
              <a:buClr>
                <a:srgbClr val="49433e"/>
              </a:buClr>
              <a:buFont typeface="Bradley Hand ITC TT-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1003320" y="811548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120" y="2971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041120" y="1828440"/>
            <a:ext cx="1092204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491400" indent="-491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2980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12120" indent="-491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594440" indent="-491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197676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197676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197676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1120" y="1828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Developing presentation skills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41120" y="5245200"/>
            <a:ext cx="109220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BUS 251, TM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Analyze your nonverbal style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Eye contact and facial expression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nd a friendly fac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Look long enough to complete a though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mile when appropriat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Interact with audienc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Analyze your nonverbal style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Vocal trait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1701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Vary volum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1701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peak to the back row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1701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est microphon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1701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low down if you talk too fas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1701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Add pause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1701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Avoid speaking in monoton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Steve jobs presentation style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t the them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32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Provide the outlin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Demonstrate enthusiasm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Make numbers meaningful.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32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Make it visua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32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Rehears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My advice in addition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Prepare your content properly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Know how you will star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Make eye contac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Address everybody, don</a:t>
            </a:r>
            <a:r>
              <a:rPr b="0" lang="ja-JP" sz="2800" spc="-1" strike="noStrike">
                <a:solidFill>
                  <a:srgbClr val="49433e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 just talk to one person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20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Vary volume, speak to the last row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200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tand in the middle and move around a bi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2001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Use visuals, describe visual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2001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Learn to use technology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Your top fears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graphicFrame>
        <p:nvGraphicFramePr>
          <p:cNvPr id="497" name="Object 2"/>
          <p:cNvGraphicFramePr/>
          <p:nvPr/>
        </p:nvGraphicFramePr>
        <p:xfrm>
          <a:off x="2187720" y="3174840"/>
          <a:ext cx="72640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3174840"/>
                    <a:ext cx="7264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Analyze the audience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Who they are?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32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What do they know and expect?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What do they feel?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What will persuade them?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Structure the conten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ollect focus and order information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32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Decide what to say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Prepare for q/a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ollect focus and order information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15560" y="3048120"/>
            <a:ext cx="1092204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433e"/>
                </a:solidFill>
                <a:latin typeface="Bradley Hand ITC TT-Bold"/>
              </a:rPr>
              <a:t>Collect strategic and topical information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433e"/>
                </a:solidFill>
                <a:latin typeface="Bradley Hand ITC TT-Bold"/>
              </a:rPr>
              <a:t>Review your strategy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433e"/>
                </a:solidFill>
                <a:latin typeface="Bradley Hand ITC TT-Bold"/>
              </a:rPr>
              <a:t>Research to learn more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32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433e"/>
                </a:solidFill>
                <a:latin typeface="Bradley Hand ITC TT-Bold"/>
              </a:rPr>
              <a:t>Focus what you have collected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433e"/>
                </a:solidFill>
                <a:latin typeface="Bradley Hand ITC TT-Bold"/>
              </a:rPr>
              <a:t>Based on audience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433e"/>
                </a:solidFill>
                <a:latin typeface="Bradley Hand ITC TT-Bold"/>
              </a:rPr>
              <a:t>Adjust as necessary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32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433e"/>
                </a:solidFill>
                <a:latin typeface="Bradley Hand ITC TT-Bold"/>
              </a:rPr>
              <a:t>Order the content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433e"/>
                </a:solidFill>
                <a:latin typeface="Bradley Hand ITC TT-Bold"/>
              </a:rPr>
              <a:t>Using an outline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0">
              <a:spcBef>
                <a:spcPts val="3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0">
              <a:spcBef>
                <a:spcPts val="3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Decide what to say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41120" y="2463480"/>
            <a:ext cx="109220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Decide how you will open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t the stag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Grab attention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Plan a well organized body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Key points, recommendations etc.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32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Determine how you will clos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oncluding remark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Asking for decision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prepare for q/a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637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Get ready for question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1599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Value the question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1599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Practice responding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15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Refine your listening skill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1599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Look like a good listener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1599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Encourage participation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159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Respond effectively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1599"/>
              </a:spcBef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tay on messag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1599"/>
              </a:spcBef>
              <a:buSzPct val="10280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Make your responses interesting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1599"/>
              </a:spcBef>
              <a:buSzPct val="10280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Keep everyone involved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Analyze your nonverbal style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Body position and movemen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Avoid distracting position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Practice effective formal position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Practice effective informal position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Use the appropriate styl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Analyze your nonverbal style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hand and arm gestur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discover your natural gestur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avoid distracting gesture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adapt to the situation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aufique</cp:lastModifiedBy>
  <dcterms:modified xsi:type="dcterms:W3CDTF">2012-03-12T22:04:38Z</dcterms:modified>
  <cp:revision>2</cp:revision>
  <dc:subject/>
  <dc:title>Developing presentation skills</dc:title>
</cp:coreProperties>
</file>